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21D-83DC-4F12-B5AE-98C60562C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2DE-7615-4E70-BA0B-DEF893E0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52C-EEAB-401B-B98F-06D9719E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9C2B-A974-45BA-B773-08621EA6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9EE8-1183-4BA8-97EE-7D7A4B1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B7D9-BFDA-46A5-B009-202EC56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D73-5181-450C-B994-E6BA3CF9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5C6-4BD8-4C21-B173-E8787F5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3EF-BD50-48FA-9026-B0944F4B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54E-6B43-42D7-A9C2-13BCDEB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387-B411-42A5-AA17-628F8523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CCE9-498E-4591-8681-15591B4A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074F-0A69-4755-9026-EF6A1E57EB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et a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4) doi:10.1038/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3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80880" y="988920"/>
            <a:ext cx="83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spho-regulation of the eIF4E:4E-BP inter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1" descr="natureRGB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:\Susan-Don't delete\ntu\completed\nature13999-f4.jpg"/>
          <p:cNvPicPr/>
          <p:nvPr/>
        </p:nvPicPr>
        <p:blipFill>
          <a:blip r:embed="rId2"/>
          <a:stretch/>
        </p:blipFill>
        <p:spPr>
          <a:xfrm>
            <a:off x="3089160" y="1676520"/>
            <a:ext cx="298152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ngfang130</cp:lastModifiedBy>
  <dcterms:modified xsi:type="dcterms:W3CDTF">2014-12-15T02:04:46Z</dcterms:modified>
  <cp:revision>353</cp:revision>
  <dc:subject/>
  <dc:title>PowerPoint Presentation</dc:title>
</cp:coreProperties>
</file>