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01C8-3531-4FD1-B75D-C8AE43BF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A93-8DE6-4D11-930F-702A64C8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A10-E6ED-43E1-BFFE-A80943BC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D0DB-8F57-4A75-9CB7-DBF21D11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CB6-0CE7-42EE-AEB0-8E0F73C7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7D79-D3C5-461D-BD72-97F18FDC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0F6-F60D-4EF3-8A90-4168B79D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066-A201-4B20-A16E-4117BBB3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3B09-962E-44D8-B2D8-EA6AD314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A24F-2A3C-49A3-B691-4F304E32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410-8091-48FA-9059-789007B6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0DF8-9501-4425-985A-6A2051E1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71BC-1D06-4FF6-ACEC-0AB927E1D9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62120" y="5410080"/>
            <a:ext cx="761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h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et al.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Natu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0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2014) doi:10.1038/natur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13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380880" y="714600"/>
            <a:ext cx="83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ing the structural and binding properties of phosphory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E-BP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1" descr="natureRGB"/>
          <p:cNvPicPr/>
          <p:nvPr/>
        </p:nvPicPr>
        <p:blipFill>
          <a:blip r:embed="rId1"/>
          <a:stretch/>
        </p:blipFill>
        <p:spPr>
          <a:xfrm>
            <a:off x="7162920" y="6095880"/>
            <a:ext cx="1230120" cy="276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D:\Susan-Don't delete\ntu\completed\nature13999-f3.jpg"/>
          <p:cNvPicPr/>
          <p:nvPr/>
        </p:nvPicPr>
        <p:blipFill>
          <a:blip r:embed="rId2"/>
          <a:stretch/>
        </p:blipFill>
        <p:spPr>
          <a:xfrm>
            <a:off x="3681360" y="1415880"/>
            <a:ext cx="1701720" cy="39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3T15:37:01Z</dcterms:created>
  <dc:creator>.</dc:creator>
  <dc:description/>
  <dc:language>en-US</dc:language>
  <cp:lastModifiedBy>langfang130</cp:lastModifiedBy>
  <dcterms:modified xsi:type="dcterms:W3CDTF">2014-12-15T02:04:17Z</dcterms:modified>
  <cp:revision>352</cp:revision>
  <dc:subject/>
  <dc:title>PowerPoint Presentation</dc:title>
</cp:coreProperties>
</file>