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4FE-F9EB-4985-82F8-3190C53CC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899-7BEB-4DE3-956F-C6FC1340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EAA5-DF93-485F-8278-0AFAA2DA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4E8F-380E-4E58-B923-A72E17ED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764-3AF0-4C3A-98E3-1355607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5575-44F9-4E67-B219-664686B3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6741-76BC-4EDA-A1A3-26A87E35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E78-AC70-448C-9914-8544624D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66A-9532-459C-83C8-729FFE76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4A0-CA84-4D7E-AF15-A9C86690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BF4-A229-4937-BE75-F8F68C44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3866-5C7E-49F2-80A3-EEA45437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086C-F906-4A33-81CA-C9996F6BFE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et a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4) doi:10.1038/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3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80880" y="7146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sphorylation-induced structure of the major state of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8–R62 of 4E-BP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1" descr="natureRGB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Susan-Don't delete\ntu\completed\nature13999-f2.jpg"/>
          <p:cNvPicPr/>
          <p:nvPr/>
        </p:nvPicPr>
        <p:blipFill>
          <a:blip r:embed="rId2"/>
          <a:stretch/>
        </p:blipFill>
        <p:spPr>
          <a:xfrm>
            <a:off x="3008160" y="2057400"/>
            <a:ext cx="314352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ngfang130</cp:lastModifiedBy>
  <dcterms:modified xsi:type="dcterms:W3CDTF">2014-12-15T02:03:27Z</dcterms:modified>
  <cp:revision>351</cp:revision>
  <dc:subject/>
  <dc:title>PowerPoint Presentation</dc:title>
</cp:coreProperties>
</file>