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6A40-52A6-48A5-B631-A3296D01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CA1-06FF-432A-9FA5-DD110B2A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1D0-9E2A-42BD-AD89-99209DD6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788-F14E-4D79-B97F-3C2158563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92D-CC68-4410-8C0B-4B15A4D5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8833-AE4D-4365-968F-F6132E8B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EB7-4E2B-4F2B-A10B-A09682DE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F7C-384C-4E6C-B4FB-EA9617B2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BD8A-AE68-439A-8C00-A0D523A7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6CF7-852A-417F-8B4C-029741BC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281-FE40-4145-9E36-86F5E7BE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2EC8-ED9D-46D7-84D7-6E8BE765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BF1F-B457-4D77-BC24-F913ADA330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et al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4) doi:10.1038/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3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80880" y="7146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s of phosphorylation on the structural and dyna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4E-BP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1" descr="natureRGB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D:\Susan-Don't delete\ntu\completed\nature13999-f1.jpg"/>
          <p:cNvPicPr/>
          <p:nvPr/>
        </p:nvPicPr>
        <p:blipFill>
          <a:blip r:embed="rId2"/>
          <a:stretch/>
        </p:blipFill>
        <p:spPr>
          <a:xfrm>
            <a:off x="2257560" y="1905120"/>
            <a:ext cx="48830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ngfang130</cp:lastModifiedBy>
  <dcterms:modified xsi:type="dcterms:W3CDTF">2014-12-15T02:02:59Z</dcterms:modified>
  <cp:revision>350</cp:revision>
  <dc:subject/>
  <dc:title>PowerPoint Presentation</dc:title>
</cp:coreProperties>
</file>