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D292F-2775-4A20-BE4A-4F63C1AEB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A1675-ECE8-4868-8413-B427C68C5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19B3B-E9F8-4D04-8DF2-702EB53A8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5A475-387D-4AE0-B15C-E0DB383A9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A31EB-A753-4A10-AA4D-F82168D42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28FEB-051C-4A44-BEEB-166F544AA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EED0E-D8FC-4FD7-A36D-4D0C7E132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A0455-75A6-4B8A-8ED8-16B87203F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BDF64-32CC-4B59-BD33-E3ADA304B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4C957-B554-4F32-9621-4773FDAAC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D276C-3C83-4B04-A657-D89ED9C10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0F002-A1A8-4ECF-9501-C6386B01B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D3496-479A-44B6-82E9-48ED0F29985C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762120" y="5410080"/>
            <a:ext cx="7619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 Bouvignies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et al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Natur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000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(2011) doi:10.1038/nature103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80880" y="714600"/>
            <a:ext cx="839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delicate balance between states on the energy landscape can be 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ily manipulated through mutation, providing a path for protein evolvabili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7162920" y="6095880"/>
            <a:ext cx="1230120" cy="2764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2057400" y="1682640"/>
            <a:ext cx="5029200" cy="34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3T15:37:01Z</dcterms:created>
  <dc:creator>.</dc:creator>
  <dc:description/>
  <dc:language>en-US</dc:language>
  <cp:lastModifiedBy>layout</cp:lastModifiedBy>
  <dcterms:modified xsi:type="dcterms:W3CDTF">2011-08-12T06:45:25Z</dcterms:modified>
  <cp:revision>327</cp:revision>
  <dc:subject/>
  <dc:title>PowerPoint Presentation</dc:title>
</cp:coreProperties>
</file>