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D37-E494-4582-B741-2DD7178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234-F200-4A2A-A924-98AFE54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2B8-8406-4E94-9637-1E4B75E4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B9E-A008-4CC0-8D17-3BB9C12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260-58C4-4D90-AA37-79E5961D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A16-5AFC-466E-BD80-DC09E94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459-6DB9-4A24-B7AD-3D6EC1E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005-23A8-4C98-88CE-6C76E2D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0E0-D3B8-450B-8984-FD2C956E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4FD-C11F-4C6C-9759-482FEDB7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A14-9869-427A-A2B1-C1E66FC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F03-210D-4242-82F6-B50DA6D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F20C-1CC2-45BC-B68B-FA14467365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 Bouvigni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1) doi:10.1038/nature103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88920"/>
            <a:ext cx="83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drophobic ligands do not bind the excited state of L99A T4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963800"/>
            <a:ext cx="65534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yout</cp:lastModifiedBy>
  <dcterms:modified xsi:type="dcterms:W3CDTF">2011-08-12T06:44:46Z</dcterms:modified>
  <cp:revision>327</cp:revision>
  <dc:subject/>
  <dc:title>PowerPoint Presentation</dc:title>
</cp:coreProperties>
</file>