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70E-EC88-4A83-8B08-35D39BA2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C7A-084E-4465-890C-1484134B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52A-097C-4DE1-916A-5C3F4EE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1B5-A1A2-4946-819F-FFAFA43A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B8-CD1D-49AE-9DE4-37BBC95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0F1-878C-4FE0-9DCB-5F08555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3BE-322D-4F9C-A0EC-1B86C06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DC0-8EE6-4CA9-8C50-E5B8AFB6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292-BC65-4B98-855D-82B17DD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0E0-85F1-4435-8B80-7077B66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81B-83AC-429C-8942-B9686DE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EE8-F1E7-41CA-94A0-486469B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767-9A3C-4848-AB7E-64B338B84A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 Bouvigni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1) doi:10.1038/nature103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88920"/>
            <a:ext cx="83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ructure of the invisible, excited state of L99A T4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09880" y="1600200"/>
            <a:ext cx="3324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yout</cp:lastModifiedBy>
  <dcterms:modified xsi:type="dcterms:W3CDTF">2011-08-12T06:44:13Z</dcterms:modified>
  <cp:revision>327</cp:revision>
  <dc:subject/>
  <dc:title>PowerPoint Presentation</dc:title>
</cp:coreProperties>
</file>