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AE9C-8558-45BC-B39C-9118F7A35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8B60-5E3B-4B97-ABEB-3C7AD224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745D-ADC9-40E1-96E8-B3D98B12B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6B75-58B2-497A-A37B-CCB3A54DA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AEFC-E119-4944-B8ED-7D340F93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2494-7303-4628-B21A-633D4928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576F-C216-46EB-828A-AEC572FF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872C-A349-459E-BB3C-F9FD4D58E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B8D2-68EF-474F-8311-BDAC672A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DE64-8AC6-4828-99C5-7364BDB9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4105-6C6D-4C47-8754-7C03B7DF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B0C8-FEFC-47B0-9AAD-ABB1392F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E817-D8B5-4D7A-8943-55251C17CF1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62120" y="5410080"/>
            <a:ext cx="761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 Bouvignies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Natur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2011) doi:10.1038/nature103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714600"/>
            <a:ext cx="839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99A T4L exchanges between ground (visible) and exc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invisible) states, each with distinct conform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162920" y="6095880"/>
            <a:ext cx="1230120" cy="276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828800" y="1689120"/>
            <a:ext cx="548640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3T15:37:01Z</dcterms:created>
  <dc:creator>.</dc:creator>
  <dc:description/>
  <dc:language>en-US</dc:language>
  <cp:lastModifiedBy>layout</cp:lastModifiedBy>
  <dcterms:modified xsi:type="dcterms:W3CDTF">2011-08-12T06:43:47Z</dcterms:modified>
  <cp:revision>327</cp:revision>
  <dc:subject/>
  <dc:title>PowerPoint Presentation</dc:title>
</cp:coreProperties>
</file>