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53A-F863-45C0-B3CA-195C2311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A92-C17A-49EA-95CF-F8B0A2F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B00-9CB4-4B1E-B249-5AB946B4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341-6BBE-4207-8AF3-15A28002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83D-6B6F-4DFE-845B-016EBB32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9FF-DB64-4414-826C-F244F056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FAA-090B-4917-9F8E-8F72841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604-FD97-431E-9AE5-3412602F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D01-5556-49AB-A56F-4E848F3B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4E2-B11A-4787-BFD6-7FDACB4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84D-2295-4DE1-AEBF-B61C350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52A-42F2-4411-B559-DAFCE67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35BA-24F9-4DD8-AD48-F5482AEE73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 Ruschak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68-871 (2010) doi:10.1038/nature09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88920"/>
            <a:ext cx="83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stability and proteolysis rates are anticorre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2617920"/>
            <a:ext cx="609624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one</cp:lastModifiedBy>
  <dcterms:modified xsi:type="dcterms:W3CDTF">2010-10-05T11:09:16Z</dcterms:modified>
  <cp:revision>280</cp:revision>
  <dc:subject/>
  <dc:title>PowerPoint Presentation</dc:title>
</cp:coreProperties>
</file>