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EA6-53FB-41C0-BA80-74EC711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C5C-CCFA-4E07-B1DA-8B76BFE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511-0066-4193-9142-E55EE671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F54-4B28-4742-962B-6ED7B57F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6E3-861B-4598-B972-D93B32A4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5C1-5527-4621-87EB-3AC11B0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523-C33F-422A-8AFF-3D0CA718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D75-0793-4CD5-88CC-A36F58E7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00F-4760-4E40-83BE-2C6CEC23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7AB-7810-4977-A44D-6010303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771-A17B-4258-A528-0AE1A663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83A-F841-4716-8F38-F439ACC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222D-0358-4B89-BACF-FA171BEA79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 Ruschak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68-871 (2010) doi:10.1038/nature09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88920"/>
            <a:ext cx="83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actions between unfolded substrates and th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66880" y="1859040"/>
            <a:ext cx="38102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one</cp:lastModifiedBy>
  <dcterms:modified xsi:type="dcterms:W3CDTF">2010-10-05T11:08:53Z</dcterms:modified>
  <cp:revision>280</cp:revision>
  <dc:subject/>
  <dc:title>PowerPoint Presentation</dc:title>
</cp:coreProperties>
</file>