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34F-15E8-4408-BC22-BE0DBF94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D32-C076-41C9-9F01-9C0500EA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D9B-D7BE-49F8-9A3B-2894EF8A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B2A-E451-4A64-924A-EFDCFDFC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EA6-C6E7-4098-9657-735ADCB9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0C2-722F-4085-8228-8C74E765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852-049C-4C83-B917-BA0B94E7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378-FE00-428C-8BB0-56FA9B7B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5B8-543E-4913-9C7E-E2B626FD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0EE-D986-411B-8707-069C6EA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284-ADBB-4DFA-9636-724956C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801-2989-4991-950F-BAD448E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2251-C43E-46FC-95E9-61E6CCB8B2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 Ruschak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868-871 (2010) doi:10.1038/nature09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951480"/>
            <a:ext cx="839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lding of proteasome substrates 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33720" y="2201760"/>
            <a:ext cx="4876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one</cp:lastModifiedBy>
  <dcterms:modified xsi:type="dcterms:W3CDTF">2010-10-05T11:08:35Z</dcterms:modified>
  <cp:revision>280</cp:revision>
  <dc:subject/>
  <dc:title>PowerPoint Presentation</dc:title>
</cp:coreProperties>
</file>