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C369-314E-49FB-AA30-D761EDD9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E27-ACAD-4671-8D9C-89E1486D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6256-34BC-48BE-800A-01058AF3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5BC-B23B-49B0-9372-EA10A13C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B04-BE18-4456-985C-A2B07B16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7967-8507-47F5-8B3E-C44FCC70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2D4-C73C-4BD6-A280-66563272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7112-BC20-437E-86B4-8BDBB715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E61-2FE6-47C2-8735-DF239623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40E-1603-4078-B917-11259512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B82A-2E6F-42BB-82E6-C9C90E0F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DE9D-8C04-4005-8607-466072C9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7EAC-57E4-40AD-BA33-940AE1D7139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5410080"/>
            <a:ext cx="761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 Ruschak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868-871 (2010) doi:10.1038/nature094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951480"/>
            <a:ext cx="839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apsulation of substrates in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2920" y="6095880"/>
            <a:ext cx="1230120" cy="276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676520" y="2446200"/>
            <a:ext cx="579096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7:01Z</dcterms:created>
  <dc:creator>.</dc:creator>
  <dc:description/>
  <dc:language>en-US</dc:language>
  <cp:lastModifiedBy>one</cp:lastModifiedBy>
  <dcterms:modified xsi:type="dcterms:W3CDTF">2010-10-05T11:08:19Z</dcterms:modified>
  <cp:revision>280</cp:revision>
  <dc:subject/>
  <dc:title>PowerPoint Presentation</dc:title>
</cp:coreProperties>
</file>